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868-CD1A-4B13-86DE-35300262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0D8-3D1F-4C95-BD4C-AE9506A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84C-351D-4059-8DF7-2EDCB3F8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1A9-485F-45DB-A28B-DC589876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454-D78B-45D8-9C9A-B90A107C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9C2-8917-4D22-B308-92DDFD9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DB6-5FF1-4012-81D6-960B7EC2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ECF-D206-458B-A6B8-8669BF8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01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D0F-5116-4AD5-9310-D2E34D6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4D8-9F32-4D1A-BC7D-341606E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25F-8442-42E0-8463-BE2F108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F93-E60A-4166-A548-DADC153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DD3-0395-4AF1-BE1A-91BC94B814E7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4880" y="-720"/>
            <a:ext cx="34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© 2009, Ternarylogic LL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97520" y="6180120"/>
            <a:ext cx="2340000" cy="66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0360" cy="6858000"/>
          </a:xfrm>
          <a:prstGeom prst="rect">
            <a:avLst/>
          </a:prstGeom>
          <a:solidFill>
            <a:srgbClr val="2109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85680" cy="6858000"/>
          </a:xfrm>
          <a:prstGeom prst="rect">
            <a:avLst/>
          </a:prstGeom>
          <a:solidFill>
            <a:srgbClr val="e73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790440" y="-4284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1E73-A332-432E-B473-706AEB477AC3}" type="slidenum">
              <a:rPr b="1" lang="en-US" sz="1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483440" y="-5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ppft1.uspto.gov/netacgi/nph-Parser?Sect1=PTO2&amp;Sect2=HITOFF&amp;p=1&amp;u=/netahtml/PTO/search-bool.html&amp;r=0&amp;f=S&amp;l=50&amp;TERM1=lablans&amp;FIELD1=&amp;co1=AND&amp;TERM2=&amp;FIELD2=&amp;d=PG01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tft.uspto.gov/netacgi/nph-Parser?Sect1=PTO2&amp;Sect2=HITOFF&amp;p=1&amp;u=/netahtml/PTO/search-bool.html&amp;r=11&amp;f=G&amp;l=50&amp;co1=AND&amp;d=PTXT&amp;s1=tammaru.INNM.&amp;OS=IN/tammaru&amp;RS=IN/tammar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6040" y="625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ernarylogic LLC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3840" y="1767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cramblers, Descramblers, Sequence Generators and Sequence Detector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880" y="3233880"/>
            <a:ext cx="8247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vices and methods displayed herein are protected by pending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sued U.S. Patents.  One is allowed to play the embedded methods here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rictly as is, with no modifications to the program, or to any of the 15 sl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xpressly and explicitly no license is provided to implement any of the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thods in a program, on a processor or in a circuit.  Use of these methods wit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written license provided by Ternarylogic LLC constitutes infrin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license may be requested in writing from admin@ternarylog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-state LFSR scrambler/descrambl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200" y="1660680"/>
            <a:ext cx="78944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next Slide shows a 4-state LFSR based Scrambler/Descrambler applying 4-valued auto-reversing Function fc1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89040" y="1805040"/>
            <a:ext cx="3507120" cy="787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8120" y="4483080"/>
            <a:ext cx="3506760" cy="763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98600" y="1563840"/>
            <a:ext cx="417600" cy="417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00400" y="499284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69000" y="157176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070600" y="1955520"/>
            <a:ext cx="0" cy="625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985000" y="1819440"/>
            <a:ext cx="11160" cy="45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920" y="1063800"/>
            <a:ext cx="0" cy="498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2577960"/>
            <a:ext cx="0" cy="811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575160" y="1805040"/>
            <a:ext cx="4982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2360" y="2592360"/>
            <a:ext cx="2556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511000" y="3903840"/>
            <a:ext cx="11160" cy="580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0200" y="5403960"/>
            <a:ext cx="0" cy="741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3800" y="5045040"/>
            <a:ext cx="403200" cy="40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38640" y="4479840"/>
            <a:ext cx="0" cy="560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57600" y="5243400"/>
            <a:ext cx="5097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8120" y="4537080"/>
            <a:ext cx="0" cy="3938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51040" y="4479840"/>
            <a:ext cx="243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3880" y="403200"/>
            <a:ext cx="65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 4-valued Scrambler and Descrambler in Fibonacci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2240" y="16146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92480" y="161784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11560" y="503064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07160" y="511956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50120" y="18622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cra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26440" y="434664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scra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34080" y="246528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96480" y="6276960"/>
            <a:ext cx="637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scrambler/descrambler is covered by U.S. Patent 7,505,5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19280" y="1297080"/>
            <a:ext cx="3506760" cy="787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0960" y="3873600"/>
            <a:ext cx="3507120" cy="763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11840" y="1911240"/>
            <a:ext cx="417600" cy="417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40280" y="4427640"/>
            <a:ext cx="40176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02000" y="1846440"/>
            <a:ext cx="40176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03600" y="1289160"/>
            <a:ext cx="0" cy="581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14880" y="1310760"/>
            <a:ext cx="11160" cy="451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22800" y="2325600"/>
            <a:ext cx="0" cy="4986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9280" y="2070000"/>
            <a:ext cx="0" cy="811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604680" y="1297080"/>
            <a:ext cx="4986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2600" y="2084400"/>
            <a:ext cx="2556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25400" y="4614840"/>
            <a:ext cx="11160" cy="581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56280" y="4867200"/>
            <a:ext cx="0" cy="741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38360" y="3637080"/>
            <a:ext cx="403560" cy="40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43200" y="4046400"/>
            <a:ext cx="0" cy="587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00440" y="4633920"/>
            <a:ext cx="5097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60960" y="3927600"/>
            <a:ext cx="0" cy="393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5440" y="5191200"/>
            <a:ext cx="243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0040" y="430200"/>
            <a:ext cx="70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 4-valued scrambler and self-synchronizing descrambler in Galois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05240" y="188928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05720" y="196524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51800" y="44658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40160" y="368316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3040" y="11080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cra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27160" y="36939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scra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067520" y="122868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6120" y="6276960"/>
            <a:ext cx="644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scrambler/descrambler is covered by U.S. Patent 7,487,1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escrambler as a sequence detect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asy to realiz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es not propagate erro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ximum error propagation determined by the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ze of the shift regist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lf-synchronizing but not always synchroniz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cellent cross-correlation or discriminating properties against other GF sequence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-valued sequence generator and detect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9040" y="1805040"/>
            <a:ext cx="3507120" cy="787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4483080"/>
            <a:ext cx="3506760" cy="763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00400" y="499284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9000" y="1571760"/>
            <a:ext cx="401400" cy="40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070600" y="1955520"/>
            <a:ext cx="0" cy="625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85000" y="1819440"/>
            <a:ext cx="11160" cy="45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9040" y="2577960"/>
            <a:ext cx="0" cy="811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75160" y="1805040"/>
            <a:ext cx="4982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2360" y="2592360"/>
            <a:ext cx="2556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11000" y="3903840"/>
            <a:ext cx="11160" cy="580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1360" y="5370480"/>
            <a:ext cx="0" cy="741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5045040"/>
            <a:ext cx="403200" cy="40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38640" y="4479840"/>
            <a:ext cx="0" cy="560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657600" y="5243400"/>
            <a:ext cx="5097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4537080"/>
            <a:ext cx="0" cy="3938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51040" y="4479840"/>
            <a:ext cx="243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2240" y="16146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78440" y="5052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29480" y="508644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51200" y="18622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27160" y="4195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9160" y="237348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718320" y="4573440"/>
          <a:ext cx="1434960" cy="1420920"/>
        </p:xfrm>
        <a:graphic>
          <a:graphicData uri="http://schemas.openxmlformats.org/drawingml/2006/table">
            <a:tbl>
              <a:tblPr/>
              <a:tblGrid>
                <a:gridCol w="352440"/>
                <a:gridCol w="258840"/>
                <a:gridCol w="258840"/>
                <a:gridCol w="268200"/>
                <a:gridCol w="29664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3896640" y="6181560"/>
            <a:ext cx="206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atch how output becomes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1 when in detect mod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773520" y="5937120"/>
            <a:ext cx="11592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330280" y="70956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vantages of MV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91600" y="1930320"/>
            <a:ext cx="459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tter Correlat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tter Use of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igher Storag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eater Varie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w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ower clock-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tellectual Property Righ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240" y="1341360"/>
            <a:ext cx="7715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presentation is for demonstration and educational purposes only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does not provide anyone with a license to use the here described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chnology. All copyrights are reserv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e may use, copy and show this presentation only as is, in its unmodified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m and should show the Ternarylogic LLC copyright mark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herein described MVL methods and apparatus (except the 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FSR based scrambler, descrambler and sequence generator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urrently subject of Pending Patents with the USP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Patent Applications pertaining to the methods shown in thi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sentation have been published in the on-line USPTO PreGrant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bas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UR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you don’t understand this slide, please ask for advice, and you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uld probably not use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7040" y="56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binary LFSR based Scrambl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12760"/>
            <a:ext cx="7939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nted at Bell Lab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S. Patent 4,304,962 entitled Data Scrambl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eaking-up repetitive binary Patter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urity of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viding PN Capabil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f-synchronizing Descrambl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undreds of Millions of Implemen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FSR based binary Sequence Generat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859040"/>
            <a:ext cx="72547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sists of Linear Feedback Shift Register with k ele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edback through binary XOR/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≠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petitive after 2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– 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ompliant with Galois Field Theo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00360" y="2384280"/>
            <a:ext cx="3527280" cy="1152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68800" y="2192400"/>
            <a:ext cx="3589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49880" y="2554200"/>
            <a:ext cx="0" cy="982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7120" y="3506760"/>
            <a:ext cx="0" cy="12272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91480" y="2178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540400" y="2379600"/>
            <a:ext cx="449280" cy="6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526920" y="2379600"/>
            <a:ext cx="473400" cy="6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8000" y="10206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binary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-state LFSR Circui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32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-state LFSR based Circuitry with n&gt;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F Solutions require Multipl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narylogic Solutions are single Function based with no Multipl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narylogic Solutions have greater Variety and novel Realiza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27280" y="2276640"/>
            <a:ext cx="4032360" cy="122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060640"/>
            <a:ext cx="43164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3500280"/>
            <a:ext cx="0" cy="576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2492280"/>
            <a:ext cx="0" cy="100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3080" y="21337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365720"/>
            <a:ext cx="0" cy="431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7800" y="66348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3-state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565360"/>
            <a:ext cx="0" cy="64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3500280"/>
            <a:ext cx="2160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659640" y="2708280"/>
            <a:ext cx="0" cy="433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08720" y="2708280"/>
            <a:ext cx="0" cy="433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635280" y="2276640"/>
            <a:ext cx="720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4581360"/>
            <a:ext cx="0" cy="432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92440" y="47005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quenc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54800" y="6207120"/>
            <a:ext cx="2289240" cy="650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00" y="0"/>
            <a:ext cx="75960" cy="6858000"/>
          </a:xfrm>
          <a:prstGeom prst="rect">
            <a:avLst/>
          </a:prstGeom>
          <a:solidFill>
            <a:srgbClr val="2109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0"/>
            <a:ext cx="75960" cy="6858000"/>
          </a:xfrm>
          <a:prstGeom prst="rect">
            <a:avLst/>
          </a:prstGeom>
          <a:solidFill>
            <a:srgbClr val="e73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1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uto-reversing Scrambling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240920"/>
            <a:ext cx="6340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auto-reversing n-valued logic function complies with: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(a sc b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(c sc b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(a sc c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wherein the n-valued function ‘sc’ is commutativ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uto-reversing properties are independent of the naming of sta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uto-reversing functions can be applied in LFSR based n-state scramblers and descrambler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he next slide shows a scrambler/descrambler applying the 4-state auto-reversing function fc1 with truth table: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1880" y="4976640"/>
          <a:ext cx="1671480" cy="144180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H="1">
            <a:off x="2003040" y="2976480"/>
            <a:ext cx="927000" cy="18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837480" y="3189240"/>
            <a:ext cx="730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92480" y="3252960"/>
            <a:ext cx="3946320" cy="820440"/>
          </a:xfrm>
          <a:custGeom>
            <a:avLst/>
            <a:gdLst/>
            <a:ahLst/>
            <a:rect l="l" t="t" r="r" b="b"/>
            <a:pathLst>
              <a:path w="2486" h="517">
                <a:moveTo>
                  <a:pt x="401" y="0"/>
                </a:moveTo>
                <a:lnTo>
                  <a:pt x="0" y="0"/>
                </a:lnTo>
                <a:lnTo>
                  <a:pt x="0" y="517"/>
                </a:lnTo>
                <a:lnTo>
                  <a:pt x="2085" y="517"/>
                </a:lnTo>
                <a:lnTo>
                  <a:pt x="2085" y="65"/>
                </a:lnTo>
                <a:lnTo>
                  <a:pt x="2486" y="65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60680" y="2997360"/>
            <a:ext cx="2778120" cy="150480"/>
          </a:xfrm>
          <a:custGeom>
            <a:avLst/>
            <a:gdLst/>
            <a:ahLst/>
            <a:rect l="l" t="t" r="r" b="b"/>
            <a:pathLst>
              <a:path w="1750" h="95">
                <a:moveTo>
                  <a:pt x="0" y="95"/>
                </a:moveTo>
                <a:lnTo>
                  <a:pt x="1335" y="95"/>
                </a:lnTo>
                <a:lnTo>
                  <a:pt x="1335" y="0"/>
                </a:lnTo>
                <a:lnTo>
                  <a:pt x="1750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22400" y="4073400"/>
            <a:ext cx="3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92520" y="2811600"/>
            <a:ext cx="693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45200" y="2830680"/>
            <a:ext cx="693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24720" y="565200"/>
            <a:ext cx="74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auto-reversing Scrambl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3080" y="22431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cra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45320" y="22622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cra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7280" y="2973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72280" y="3003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2080" y="24051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known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00" y="44845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known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93240" y="26114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cramble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95520" y="2610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cramble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54560" y="4478400"/>
          <a:ext cx="1671480" cy="1441440"/>
        </p:xfrm>
        <a:graphic>
          <a:graphicData uri="http://schemas.openxmlformats.org/drawingml/2006/table">
            <a:tbl>
              <a:tblPr/>
              <a:tblGrid>
                <a:gridCol w="411120"/>
                <a:gridCol w="299880"/>
                <a:gridCol w="301680"/>
                <a:gridCol w="312840"/>
                <a:gridCol w="345960"/>
              </a:tblGrid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96120" y="6276960"/>
            <a:ext cx="644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scrambler/descrambler is covered by U.S. Pat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002,4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1:50:15Z</dcterms:created>
  <dc:creator>Multi</dc:creator>
  <dc:description/>
  <dc:language>en-US</dc:language>
  <cp:lastModifiedBy>multi</cp:lastModifiedBy>
  <dcterms:modified xsi:type="dcterms:W3CDTF">2009-03-28T19:00:27Z</dcterms:modified>
  <cp:revision>52</cp:revision>
  <dc:subject/>
  <dc:title>Slide 1</dc:title>
</cp:coreProperties>
</file>