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B08-9184-4C2F-94FB-CFFF542B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866-7D05-454B-8F2B-5F4FE994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07D-28A9-4449-AAD9-772D7F2B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E95-9454-4AAE-8C66-AE9D4891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18F-732A-4436-9386-E27B0EA1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9B0-1A87-4739-B074-B76E6E90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D3F-D02D-4139-859F-7C3BCB9F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4F5-E030-45ED-8A12-A8AA56D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01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82D-896A-4609-A7F7-FD93FF48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4F8-6FBA-42F6-B10C-667930A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48B-5E97-4FAA-A81C-89A685D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009-0D42-4EC3-A379-B06BA20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408E-271B-425B-BDC3-2B9FEF922396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71800" y="-720"/>
            <a:ext cx="38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© 2005-2010, Ternarylogic LL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07240" y="6180120"/>
            <a:ext cx="2340000" cy="66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95040" cy="6858000"/>
          </a:xfrm>
          <a:prstGeom prst="rect">
            <a:avLst/>
          </a:prstGeom>
          <a:solidFill>
            <a:srgbClr val="e73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0360" cy="6858000"/>
          </a:xfrm>
          <a:prstGeom prst="rect">
            <a:avLst/>
          </a:prstGeom>
          <a:solidFill>
            <a:srgbClr val="2109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ppft1.uspto.gov/netahtml/PTO/search-bool.html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rnarylogic LLC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20760" y="159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VL Scramblers, Descramblers, Sequence Generators and Sequence Detector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6040" y="609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ents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2880" y="2508120"/>
            <a:ext cx="8247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r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vices and methods displayed herein are protected by pending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sued U.S. Patents.  One is allowed to play the embedded methods here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rictly “as is”, with no modifications to the program, or to any of the 15 sl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xpressly and explicitly no license is provided to implement any of the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thods in a program, on a processor or in a circuit.  Use of these methods wit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written license provided by Ternarylogic LLC constitutes infrin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license may be requested in writing from admin@ternarylog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n-prime MVL sol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200" y="1660680"/>
            <a:ext cx="789444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F(n) Solutions work best for n is Pri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ernarylogic Solutions work also for n non-Pri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quence Performance can be PN or close to PN with excellent Correlation Proper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ernarylogic Solutions have different Correlation Approaches, adapting to different Signal-to-Noise Require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following Slide shows a 4-valued LFSR based Scrambler/Descrambler applying 4-valued auto-reversing Function fc1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15880" y="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27200" y="1728720"/>
            <a:ext cx="3506760" cy="787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8120" y="4406760"/>
            <a:ext cx="3506760" cy="763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36760" y="1535040"/>
            <a:ext cx="417600" cy="417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0400" y="4954680"/>
            <a:ext cx="40140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6800" y="1535040"/>
            <a:ext cx="401760" cy="40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8400" y="1945800"/>
            <a:ext cx="0" cy="559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22800" y="1743120"/>
            <a:ext cx="11160" cy="450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38360" y="1158840"/>
            <a:ext cx="0" cy="36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27200" y="2502000"/>
            <a:ext cx="0" cy="81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13320" y="1535040"/>
            <a:ext cx="4982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30520" y="2516040"/>
            <a:ext cx="2556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11000" y="3827520"/>
            <a:ext cx="11160" cy="581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0200" y="5346720"/>
            <a:ext cx="0" cy="560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3800" y="4954680"/>
            <a:ext cx="403200" cy="40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8640" y="4403880"/>
            <a:ext cx="0" cy="560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657600" y="4954680"/>
            <a:ext cx="5097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8120" y="4460760"/>
            <a:ext cx="0" cy="3938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51040" y="4403880"/>
            <a:ext cx="243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960" y="303120"/>
            <a:ext cx="73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4-valued Scrambler and Descrambler in Fibonacci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10400" y="15732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30640" y="15732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11560" y="50022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07160" y="50022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78600" y="15955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cra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69240" y="428940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scra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88000" y="2575080"/>
          <a:ext cx="1671480" cy="144144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330200" y="81108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_signal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4480" y="34084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cr_signal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62280" y="58816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scr_signal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29480" y="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7840" y="6207120"/>
            <a:ext cx="666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N-state LFSR based scramblers/descramblers with n&gt; 2 and at least one function not being a modulo-n addition are covered by </a:t>
            </a: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US Patent 7,643,632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.  No license to this invention is provided or implied by this public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escrambler as a sequence detect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asy to realiz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es not propagate erro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ximum error propagation determined by the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ze of the shift regist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lf-synchronizing but not always synchroniz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cellent cross-correlation or discriminating properties against other GF sequence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29480" y="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-valued sequence generator and detect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9040" y="1805040"/>
            <a:ext cx="3507120" cy="787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8120" y="4483080"/>
            <a:ext cx="3506760" cy="763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00400" y="4992840"/>
            <a:ext cx="40140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69000" y="1571760"/>
            <a:ext cx="40140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070600" y="1955520"/>
            <a:ext cx="0" cy="625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85000" y="1819440"/>
            <a:ext cx="11160" cy="450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9040" y="2577960"/>
            <a:ext cx="0" cy="811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75160" y="1805040"/>
            <a:ext cx="4982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2360" y="2592360"/>
            <a:ext cx="2556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511000" y="3903840"/>
            <a:ext cx="11160" cy="580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1360" y="5370480"/>
            <a:ext cx="0" cy="741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3800" y="5045040"/>
            <a:ext cx="403200" cy="40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38640" y="4479840"/>
            <a:ext cx="0" cy="560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600" y="5243400"/>
            <a:ext cx="5097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8120" y="4537080"/>
            <a:ext cx="0" cy="3938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51040" y="4479840"/>
            <a:ext cx="243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2240" y="16146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78440" y="5052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9480" y="508644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51200" y="18622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27160" y="4195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t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599160" y="2373480"/>
          <a:ext cx="1671480" cy="144144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718320" y="4573440"/>
          <a:ext cx="1434960" cy="1420920"/>
        </p:xfrm>
        <a:graphic>
          <a:graphicData uri="http://schemas.openxmlformats.org/drawingml/2006/table">
            <a:tbl>
              <a:tblPr/>
              <a:tblGrid>
                <a:gridCol w="352440"/>
                <a:gridCol w="258840"/>
                <a:gridCol w="258840"/>
                <a:gridCol w="268200"/>
                <a:gridCol w="29664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896640" y="6181560"/>
            <a:ext cx="206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atch how output becomes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1 when in detect mod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773520" y="5937120"/>
            <a:ext cx="11592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29480" y="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30280" y="70956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vantages of MV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91600" y="1930320"/>
            <a:ext cx="459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tter Correlat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tter Use of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igher Storag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eater Varie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w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ower clock-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29480" y="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tellectual Property Righ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240" y="1341360"/>
            <a:ext cx="7715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presentation is for demonstration and educational purposes only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does not provide anyone with a license to use the here described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chnology. All copyrights are reserv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e may use, copy and show this presentation only as is, in its unmodified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m and should show the Ternarylogic LLC copyright mark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herein described MVL methods and apparatus (except the 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FSR based scrambler, descrambler and sequence generator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urrently subject of Pending Patents with the USP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Patent Applications pertaining to the methods shown in thi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sentation have been published in the on-line USPTO PreGrant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bas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ppft1.uspto.gov/netahtml/PTO/search-bool.htm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you don’t understand this slide, please ask for advice, and you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uld probably not use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binary LFSR based Scrambl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2012760"/>
            <a:ext cx="64008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vented and Patented by Bell Lab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reaking-up repetitive binary Patter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urity of Da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viding PN Capabili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lf-synchronizing Descrambl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undreds of Millions of Implementa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FSR based binary Sequence Generat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859040"/>
            <a:ext cx="72547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sists of Linear Feedback Shift Register with k ele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edback through binary XOR/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≠ fun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petitive after 2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– 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Compliant with Galois Field Theo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00360" y="2384280"/>
            <a:ext cx="3527280" cy="1152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68800" y="2192400"/>
            <a:ext cx="3589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49880" y="2554200"/>
            <a:ext cx="0" cy="982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97120" y="3506760"/>
            <a:ext cx="0" cy="1227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91480" y="2178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540400" y="2379600"/>
            <a:ext cx="449280" cy="6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526920" y="2379600"/>
            <a:ext cx="473400" cy="6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18000" y="10206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binary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rnary LFSR Circui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32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FSR based Circuit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F Solutions require Multipl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ernarylogic Solutions are single Function based with no Multipl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ernarylogic Solutions have greater Variety and novel Realiza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27280" y="2276640"/>
            <a:ext cx="4032360" cy="122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2060640"/>
            <a:ext cx="43164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3500280"/>
            <a:ext cx="0" cy="576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2492280"/>
            <a:ext cx="0" cy="100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3080" y="21337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4365720"/>
            <a:ext cx="0" cy="431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5640" y="66348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ternary logic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2565360"/>
            <a:ext cx="0" cy="64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500280"/>
            <a:ext cx="216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659640" y="2708280"/>
            <a:ext cx="0" cy="433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508720" y="2708280"/>
            <a:ext cx="0" cy="433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35280" y="2276640"/>
            <a:ext cx="7207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7280" y="4581360"/>
            <a:ext cx="0" cy="432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92440" y="47005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quenc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01640" y="4502160"/>
            <a:ext cx="394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-state LFSR based sequence generators with n&gt;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nd sc1 being non-commutative are cove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S Patent Publication 20050185796, to be issu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s US Patent 7,643,632 on 1/5/2010.  A licens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is invention can only be requested in wri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rom Ternarylogic LL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uto-reversing Scrambling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240920"/>
            <a:ext cx="63403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auto-reversing n-valued logic function complies with: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→ (a sc b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→ (c sc b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→ (a sc c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wherein the n-valued function ‘sc’ is commutativ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ach n-valued logic has n auto-reversing fun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uto-reversing properties are independent of the naming of sta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ach auto-reversing scrambler is its own descrambl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uto-reversing functions can be applied in LFSR based n-valued scramblers and descrambler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he next slide shows a scrambler/descrambler applying the 4-valued auto-reversing function fc1 with truth table: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1880" y="4976640"/>
          <a:ext cx="1671480" cy="144180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H="1">
            <a:off x="2003040" y="2976480"/>
            <a:ext cx="927000" cy="18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837480" y="3189240"/>
            <a:ext cx="730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92480" y="3252960"/>
            <a:ext cx="3946320" cy="820440"/>
          </a:xfrm>
          <a:custGeom>
            <a:avLst/>
            <a:gdLst/>
            <a:ahLst/>
            <a:rect l="l" t="t" r="r" b="b"/>
            <a:pathLst>
              <a:path w="2486" h="517">
                <a:moveTo>
                  <a:pt x="401" y="0"/>
                </a:moveTo>
                <a:lnTo>
                  <a:pt x="0" y="0"/>
                </a:lnTo>
                <a:lnTo>
                  <a:pt x="0" y="517"/>
                </a:lnTo>
                <a:lnTo>
                  <a:pt x="2085" y="517"/>
                </a:lnTo>
                <a:lnTo>
                  <a:pt x="2085" y="65"/>
                </a:lnTo>
                <a:lnTo>
                  <a:pt x="2486" y="65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60680" y="2997360"/>
            <a:ext cx="2778120" cy="150480"/>
          </a:xfrm>
          <a:custGeom>
            <a:avLst/>
            <a:gdLst/>
            <a:ahLst/>
            <a:rect l="l" t="t" r="r" b="b"/>
            <a:pathLst>
              <a:path w="1750" h="95">
                <a:moveTo>
                  <a:pt x="0" y="95"/>
                </a:moveTo>
                <a:lnTo>
                  <a:pt x="1335" y="95"/>
                </a:lnTo>
                <a:lnTo>
                  <a:pt x="1335" y="0"/>
                </a:lnTo>
                <a:lnTo>
                  <a:pt x="1750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922400" y="4073400"/>
            <a:ext cx="3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92520" y="2811600"/>
            <a:ext cx="693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45200" y="2830680"/>
            <a:ext cx="693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24720" y="565200"/>
            <a:ext cx="74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auto-reversing Scrambl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3080" y="22431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cra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5320" y="22622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cra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7280" y="2973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72280" y="3003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2080" y="24051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known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1600" y="44845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known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3240" y="26114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cramble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95520" y="2610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cramble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54560" y="4478400"/>
          <a:ext cx="1671480" cy="144144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8615520" y="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1:50:15Z</dcterms:created>
  <dc:creator>Multi</dc:creator>
  <dc:description/>
  <dc:language>en-US</dc:language>
  <cp:lastModifiedBy>multi</cp:lastModifiedBy>
  <dcterms:modified xsi:type="dcterms:W3CDTF">2010-01-07T03:22:54Z</dcterms:modified>
  <cp:revision>45</cp:revision>
  <dc:subject/>
  <dc:title>Slide 1</dc:title>
</cp:coreProperties>
</file>